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B8D-9FCA-4A0F-B7B2-B496927F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0A5-0186-4781-AB3A-B350A9FE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52F-7E8B-45A7-8C0A-C512460C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778-688F-4B24-94FF-08E6F97E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0EB-9085-4333-84B9-BAE495F6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1C9-DEB7-4ADE-88AE-4FA8F3B9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2B1-EA97-45C7-894C-1A12FE98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DE8-7069-4E22-B12A-F7886DDD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728-A679-420E-A4B1-C9F9C17A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A95-59CB-407E-9565-B8806A4B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AE4-635A-4B86-8FFC-64883C07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00C-E3E8-4E5B-820F-E10F5E09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1E83-FBCA-414B-B243-87FD71A67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003300"/>
            </a:gs>
            <a:gs pos="100000">
              <a:srgbClr val="ff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Old English Text MT"/>
              </a:rPr>
              <a:t>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By Jacob Russ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1"/>
          <a:stretch/>
        </p:blipFill>
        <p:spPr>
          <a:xfrm>
            <a:off x="3733920" y="457200"/>
            <a:ext cx="18190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ur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Harmony 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Computer su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5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H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Staff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5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tea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s 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s Willi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s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s 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s J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s Harp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 into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 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3760" y="24382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9:53:18Z</dcterms:created>
  <dc:creator>4glenb2</dc:creator>
  <dc:description/>
  <dc:language>en-US</dc:language>
  <cp:lastModifiedBy>4glenb2</cp:lastModifiedBy>
  <dcterms:modified xsi:type="dcterms:W3CDTF">2009-09-30T10:29:22Z</dcterms:modified>
  <cp:revision>2</cp:revision>
  <dc:subject/>
  <dc:title>Our school</dc:title>
</cp:coreProperties>
</file>